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591-9CE9-4C04-A3DA-78832FF4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A34-C3C8-463B-9BF3-6625666C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EF0-CB0B-424E-A387-944DD4DA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002-EB6B-492B-A944-15D1BFAB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32A-8CC6-4A65-AE7E-F775F4D0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6BC-4C44-428F-B674-9B0B1BD9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203-8C51-4F9A-ABA3-55B144FE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2E9-8D45-4E59-8A38-E15BABB6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1FC-B57B-4B54-8FE9-9AB99F5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F6C-3341-449C-A815-4116249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705-160D-4B82-A7ED-E55666C8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556-5962-497E-9B83-0CEDE9D8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911C-4FF0-49A1-AA25-B408E480B8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Владимирска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икон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e5ffff"/>
                </a:solidFill>
                <a:latin typeface="Tahoma"/>
              </a:rPr>
              <a:t>Божией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e5ffff"/>
                </a:solidFill>
                <a:latin typeface="Tahoma"/>
              </a:rPr>
              <a:t>Матер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оссия под Покровом Божией Матер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395г. – Избавление от нашествия Тамерл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80г. – Стояние на реке Угре (Пояс Богородицы). Избавление от нашествия хана Ахм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521г. – Избавление от нашествия Махмет-Гире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076720" y="22050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ками благоговейно почитаемый народом Владимирский образ оставался в Успенском соборе Московского Крем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314280" y="836640"/>
            <a:ext cx="4745160" cy="547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5651640" y="333360"/>
            <a:ext cx="3041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етьяковская галере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287280" y="1773360"/>
            <a:ext cx="5907240" cy="4686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2520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 Владимирской иконы списано много замечательных копий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2187" t="2082" r="2187" b="1041"/>
          <a:stretch/>
        </p:blipFill>
        <p:spPr>
          <a:xfrm>
            <a:off x="6084720" y="2708280"/>
            <a:ext cx="2772000" cy="33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3301920" cy="4065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3"/>
          <a:stretch/>
        </p:blipFill>
        <p:spPr>
          <a:xfrm>
            <a:off x="3708360" y="1844640"/>
            <a:ext cx="2255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32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 презентаци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Чуклина Елена Александров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МОУ СОШ №25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.Должанской Ейского райо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снодарский кр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постол и Евангелист Лу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той Лука был искусным живописцем. Он написал первую  икону Божией Матери. Предание донесло до нас слова Девы Марии, сказанные Ею об этой икон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141120" y="1557360"/>
            <a:ext cx="45594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ладимирская икона Богородиц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Благодать Родшегося от Меня и Моя милость с сею иконой да буду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638280" y="1700280"/>
            <a:ext cx="36748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вятой князь Андрей Боголюбск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55640" y="4149720"/>
            <a:ext cx="403884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верный князь Андрей увозит Владимирскую икону Божией Матери из Вышгорода во Владим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5580000" y="836640"/>
            <a:ext cx="3208320" cy="37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293760" y="1635120"/>
            <a:ext cx="39909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343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Явление Богородицы князю            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ндрею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есте явления князю Андрею Божией Матери был построен храм в честь Её Рождества, вокруг которого вскоре возник город Боголюб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50920" y="947880"/>
            <a:ext cx="3744720" cy="5779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573800" y="6119640"/>
            <a:ext cx="3682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олюбская икона Богород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.Владими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11" descr=""/>
          <p:cNvPicPr/>
          <p:nvPr/>
        </p:nvPicPr>
        <p:blipFill>
          <a:blip r:embed="rId1"/>
          <a:stretch/>
        </p:blipFill>
        <p:spPr>
          <a:xfrm>
            <a:off x="58680" y="1268280"/>
            <a:ext cx="4368960" cy="538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91080" cy="2376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3280" y="233208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ресковая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спись свода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пенский собор. Здесь была установлена Владимирская икона Богород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. Владими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19280" y="1844280"/>
            <a:ext cx="3467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рагмент стены с                                                                                                  аркатурным фриз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митриевский соб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324000" y="1174680"/>
            <a:ext cx="4319280" cy="561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2"/>
          <a:stretch/>
        </p:blipFill>
        <p:spPr>
          <a:xfrm>
            <a:off x="4807080" y="1239840"/>
            <a:ext cx="386856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ренесение Владимирской иконы Божией Матери в Москв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395 г. войска Тамерлана подступили к Москве… Князь Василий повелел перенести икону из Владимира в Москву, ибо на помощь Заступницы Небесной он надеялся более, чем на силу воинску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496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терь Божия, спаси землю Русскую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03236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8:11:47Z</dcterms:created>
  <dc:creator>User</dc:creator>
  <dc:description/>
  <dc:language>en-US</dc:language>
  <cp:lastModifiedBy>Елена</cp:lastModifiedBy>
  <dcterms:modified xsi:type="dcterms:W3CDTF">2012-03-22T12:24:32Z</dcterms:modified>
  <cp:revision>4</cp:revision>
  <dc:subject/>
  <dc:title>Владимирская икона Божией Матери</dc:title>
</cp:coreProperties>
</file>